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5B50-CA9C-4766-8151-F7AEDD1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CCDF4-6933-482C-A66E-095C2F1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74D4-5E30-4648-A6D8-30319FC0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CEC23-6276-4DF5-BCE4-657F4768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8B90-4A6E-4C04-8DEA-C2F0BBA2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BFDF-972C-4146-A364-323F3D4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4062-5FEA-436E-9D17-06330DC7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280D-B9CD-46CB-AACB-895E9A2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2AF-B472-4DF1-8749-7E367919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6EB-D845-4ABF-8A06-9B170148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232-5E90-435F-80C1-FAE831DE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610A-3FDA-4F9F-93B0-21BB282D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DA2D-63D5-4539-BBCC-C242266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A37B-1E09-44D2-9795-002366A0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B0DC-1DF5-4C1D-8444-3A86175A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634E-6ABD-460C-8261-57C1B59D4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2413-A492-4153-88C3-4CB22F96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63646-9D4F-48AD-8D93-654B3AE9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7DEB-6410-49D7-AB17-3E3498D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09DA3-125E-45A7-95A8-059D9365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4475-C526-4B42-831F-BAD4C610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E141E-63E2-41BE-9C73-4EEF65B2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478B0-F0BD-46D7-AE7D-A67F46D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98391-5CCD-46A8-B44D-7048C989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F9B0-1509-44BC-BBEE-4588F89D1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9CEC-ED7F-4F99-9714-58BFBED432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tewaynmra.org/articles/civil-war1.htm" TargetMode="External"/><Relationship Id="rId2" Type="http://schemas.openxmlformats.org/officeDocument/2006/relationships/hyperlink" Target="http://wiki.answers.com/Q/Where_were_most_railroads_located_during_civil_wars" TargetMode="External"/><Relationship Id="rId3" Type="http://schemas.openxmlformats.org/officeDocument/2006/relationships/hyperlink" Target="http://www.historynet.com/railroads-critical-role-in-the-civil-war.ht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58672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during the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Presented by: Matthew Maloy</a:t>
            </a:r>
            <a:endParaRPr b="1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5715000" cy="37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ailroads up to this poin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1825, things had considerably im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comotives and RR cars got big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ck got stro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fety features appeared (head l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ilroads started appearing and comb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the time of the war, railroads were on both sides of the w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majority of them in the Northea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actical employment of locomotives and rolling stock, which was actually quite widespread, has thus far escaped serious atten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could also transport heavy guns to the battlefie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0720" y="4572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War begin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the Union and the Confederate used railro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ould also transport heavy guns to the battlefiel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nefits to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ains could transport goods and troops faster than by horse or b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awback to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s were an easy tar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armies would go along the line, destroying bridges and taking track out of alig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ring the war, all 5 railroads that served Jackson and Vicksburg, Mississippi, were destro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roops and supplies finally did get there, Grant’s Troops were too strong to be taken dow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could also transport heavy guns to the battlefiel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REAT LOCOMOTIVE C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bably the most famous ev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k place at Big Shanty, Georgia (outside Atlan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ederate soldiers, being lead by James Andrews stole, a train in hopes of destroying the tracks to prevent the supplies from getting to General Beaureg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ductor chased his train down on foot, on handcar, and on 2 different locomo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es Andrews didn’t get away (he ran out of wood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 of the locomotives in the chase, the Texas and the General, have been preserved at a muse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is the General on the front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ference Pag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ron Rail Video “The American Standar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gatewaynmra.org/articles/civil-war1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iki.answers.com/Q/Where_were_most_railroads_located_during_civil_w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historynet.com/railroads-critical-role-in-the-civil-war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35:36Z</dcterms:created>
  <dc:creator>214029</dc:creator>
  <dc:description/>
  <dc:language>en-US</dc:language>
  <cp:lastModifiedBy>214029</cp:lastModifiedBy>
  <dcterms:modified xsi:type="dcterms:W3CDTF">2010-01-12T20:39:11Z</dcterms:modified>
  <cp:revision>13</cp:revision>
  <dc:subject/>
  <dc:title>Slide 1</dc:title>
</cp:coreProperties>
</file>